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camera.wav" ContentType="audio/x-wav"/>
  <Override PartName="/ppt/media/image10.wmf" ContentType="image/x-wmf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8202-9349-4225-ABB9-C964FF0E7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0C6A-0676-4DE4-A5BB-8BC2E4972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97AB-80C1-4D13-8B29-58564C9D7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3B83-7A1D-497D-B718-87A2ED16C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99862-98D9-49E8-8978-810727213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AF7C5-2E9C-4218-B9AE-0D8165440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D23CD-6523-4EA7-B6F3-35D92A792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7E1E0-9570-4E5B-A2FB-82C0E1536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D9CD5-BECB-4151-AFC3-05688F211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D01FE-B317-466F-A2BC-57184DB78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319F8-C792-4743-A370-13F86804F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56B2-2413-4412-B69B-3CC01E444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16EDA-2B93-46B6-8545-105165BD1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D140B-8AFE-4AB1-BCF2-5AFF4A72A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FFB77-2539-4D1A-BA5E-489818181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A14B8-0386-4F54-A2B0-D8678A02E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BBE6D-3C7C-46C5-80DB-C808C4DF8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7ACB-DA98-43E6-B920-70BC5D11A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A2C6-8634-405B-8C92-537DE2CC1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C7D1-0050-4C27-BE66-9782B8111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EF3B-1BA5-4645-941D-8630F2803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FD79-5CBA-4DF9-B6A3-E467312A4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2FFD-6E36-4DFF-A702-2188CDB9D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E19A-815E-42F6-B7EA-63D55BBBF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D0DA9-3E0D-4900-9EDE-993AE0365269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94665-A6BC-474C-A5F0-DFEDE5BA9D50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4267080"/>
            <a:ext cx="5486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Tahoma"/>
              </a:rPr>
              <a:t>Energy Systems </a:t>
            </a:r>
            <a:br>
              <a:rPr sz="4800"/>
            </a:br>
            <a:r>
              <a:rPr b="0" lang="en-US" sz="4800" spc="-1" strike="noStrike">
                <a:solidFill>
                  <a:srgbClr val="ffcc66"/>
                </a:solidFill>
                <a:latin typeface="Tahoma"/>
              </a:rPr>
              <a:t>for Exercise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runner" descr=""/>
          <p:cNvPicPr/>
          <p:nvPr/>
        </p:nvPicPr>
        <p:blipFill>
          <a:blip r:embed="rId1"/>
          <a:stretch/>
        </p:blipFill>
        <p:spPr>
          <a:xfrm>
            <a:off x="6346800" y="3124080"/>
            <a:ext cx="2343240" cy="3284640"/>
          </a:xfrm>
          <a:prstGeom prst="rect">
            <a:avLst/>
          </a:prstGeom>
          <a:ln w="0">
            <a:noFill/>
          </a:ln>
        </p:spPr>
      </p:pic>
      <p:pic>
        <p:nvPicPr>
          <p:cNvPr id="91" name="marion.jones" descr=""/>
          <p:cNvPicPr/>
          <p:nvPr/>
        </p:nvPicPr>
        <p:blipFill>
          <a:blip r:embed="rId2"/>
          <a:stretch/>
        </p:blipFill>
        <p:spPr>
          <a:xfrm>
            <a:off x="304920" y="228600"/>
            <a:ext cx="2514600" cy="332568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3" name="camera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Active Recovery from Exercise  (Cool down)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cilitates lactate removal because of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reased perfusion of blood through the liver and hea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reased blood flow in muscles because muscle tissue oxidizes lact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1" name="camera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  <a:ea typeface="Arial"/>
              </a:rPr>
              <a:t>Slow (Aerobic) glycolysis</a:t>
            </a:r>
            <a:br>
              <a:rPr sz="4400"/>
            </a:br>
            <a:r>
              <a:rPr b="0" lang="en-GB" sz="4400" spc="-1" strike="noStrike">
                <a:solidFill>
                  <a:srgbClr val="ffcc66"/>
                </a:solidFill>
                <a:latin typeface="Arial"/>
                <a:ea typeface="Arial"/>
              </a:rPr>
              <a:t>(The aerobic system)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Arial"/>
              </a:rPr>
              <a:t>Slow glycolysis is used if there is enough oxygen to allow a continuous supply of fue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Arial"/>
              </a:rPr>
              <a:t>The byproduct of this form of glycolysis is pyruvate, which is not converted to lactic acid but is transported elsewhe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Arial"/>
              </a:rPr>
              <a:t>Pyruvate is eventually dissipated as sweat/ur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Aerobic/Oxidative System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Supplies energy to the muscle through the use of continuous oxygen transport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System works at rest and during very low intensity exercise such as wal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This form of energy primarily utilizes fats (70%) and carbohydrates (30%) as fuel sources, but as intensity is increased there is a switch in substrate majority from fats to carbohydrat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xygen Uptake During Aerobic Exercis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reases sharply at on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vels off within a few minutes if pace is constant (steady stat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xygen demand met by supp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ph01580j" descr=""/>
          <p:cNvPicPr/>
          <p:nvPr/>
        </p:nvPicPr>
        <p:blipFill>
          <a:blip r:embed="rId1"/>
          <a:stretch/>
        </p:blipFill>
        <p:spPr>
          <a:xfrm>
            <a:off x="5191200" y="1981080"/>
            <a:ext cx="2724120" cy="411480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camera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Maximal Oxygen Uptake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(VO</a:t>
            </a:r>
            <a:r>
              <a:rPr b="0" lang="en-US" sz="4400" spc="-1" strike="noStrike" baseline="-25000">
                <a:solidFill>
                  <a:srgbClr val="ffcc66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en-US" sz="4400" spc="-1" strike="noStrike" baseline="-25000">
                <a:solidFill>
                  <a:srgbClr val="ffcc66"/>
                </a:solidFill>
                <a:latin typeface="Arial"/>
              </a:rPr>
              <a:t>max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region where oxygen uptake plateaus and does not increase despite an additional increase in exercise intensi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H01505J" descr=""/>
          <p:cNvPicPr/>
          <p:nvPr/>
        </p:nvPicPr>
        <p:blipFill>
          <a:blip r:embed="rId1"/>
          <a:stretch/>
        </p:blipFill>
        <p:spPr>
          <a:xfrm>
            <a:off x="5191200" y="1981080"/>
            <a:ext cx="2724120" cy="411480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camera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camera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fference between oxygen consumed during exercise and amount that would have been consumed had a steady rate, aerobic metabolism occurred at onset of exercis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j0179009" descr=""/>
          <p:cNvPicPr/>
          <p:nvPr/>
        </p:nvPicPr>
        <p:blipFill>
          <a:blip r:embed="rId1"/>
          <a:stretch/>
        </p:blipFill>
        <p:spPr>
          <a:xfrm>
            <a:off x="685800" y="2778120"/>
            <a:ext cx="3809880" cy="252108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xygen Defici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Order of energy production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itial energy comes form ATP stored in muscles about 2 seco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n the ATP-PC system about 10 seco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n the Lactic acid system about 1 minu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n the Aerobic system 1minute onwar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2138400" y="13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energy" descr="Energy Systems"/>
          <p:cNvPicPr/>
          <p:nvPr/>
        </p:nvPicPr>
        <p:blipFill>
          <a:blip r:embed="rId1"/>
          <a:stretch/>
        </p:blipFill>
        <p:spPr>
          <a:xfrm>
            <a:off x="609480" y="0"/>
            <a:ext cx="7543800" cy="65102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 flipH="1">
            <a:off x="1752480" y="838080"/>
            <a:ext cx="3353040" cy="838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1828800" y="914400"/>
            <a:ext cx="327672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1752480" y="838080"/>
            <a:ext cx="3353040" cy="838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1676160" y="762120"/>
            <a:ext cx="327636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he Energy-Time Continuum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85800" y="1981080"/>
          <a:ext cx="380988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38098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 the work time increases, the percentage of energy contributed by the aerobic system increas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3" name="camera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nergy Sourc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om Foo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O = 4 k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t = 9 k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tein = 4 k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Exercis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TP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ADP + P + energy (for muscle contraction)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meal" descr=""/>
          <p:cNvPicPr/>
          <p:nvPr/>
        </p:nvPicPr>
        <p:blipFill>
          <a:blip r:embed="rId1"/>
          <a:stretch/>
        </p:blipFill>
        <p:spPr>
          <a:xfrm>
            <a:off x="609480" y="1752480"/>
            <a:ext cx="3751560" cy="426744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camera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lood Lactate Threshol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ercise intensity at the point of lactate buildup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dicts aerobic exercise performan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trained ~ 55% of V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max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ined ~ 75% of V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max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j0182524" descr=""/>
          <p:cNvPicPr/>
          <p:nvPr/>
        </p:nvPicPr>
        <p:blipFill>
          <a:blip r:embed="rId1"/>
          <a:stretch/>
        </p:blipFill>
        <p:spPr>
          <a:xfrm>
            <a:off x="685800" y="2781360"/>
            <a:ext cx="3809880" cy="251460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camera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Adenosine Triphosphat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Energy-carrying molecule found in the cells of all living thing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ATP captures chemical energy obtained from the breakdown of food molecules and releases it to fuel other cellular processe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Cells require chemical energy for three general types of tasks: to drive metabolic reactions that would not occur automatically; to transport needed substances across membranes; and to do mechanical work, such as moving muscles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Methods of Supplying ATP For Energ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tored ATP + PC (Creatine Phosphate) or ATP-P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naerobic metabolism/ glycolysis/lactic acid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erobic metabol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1" name="camera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ATP-PC System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hort duration (&lt;10 secs) anaerob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Uses stored AT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trength/power mov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eplenishes rapid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1" name="camera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  <a:ea typeface="Arial"/>
              </a:rPr>
              <a:t>The ATP-PC system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  <a:ea typeface="Arial"/>
              </a:rPr>
              <a:t>Active at the beginning of all forms of activiti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  <a:ea typeface="Arial"/>
              </a:rPr>
              <a:t>Especially important in high intensity exercises like weight lifting that require short bursts of energy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  <a:ea typeface="Arial"/>
              </a:rPr>
              <a:t>The source of fuel for the ATP-PC system is ATP and PC that is stored in the muscles.  Only a small quantity can be stored, so this energy source is only effective for activities that last ten seconds or les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Glycolysi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Arial"/>
              </a:rPr>
              <a:t>Breakdown of carbohydrates for fue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Arial"/>
              </a:rPr>
              <a:t>Fuel stored in the muscle as glycogen / delivered to the muscle as blood glucos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Arial"/>
              </a:rPr>
              <a:t>Glycolysis can produce fuel for 30 seconds to a minute for moderate heavy resistance train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Fast (Anaerobic) Glycolysis</a:t>
            </a:r>
            <a:br>
              <a:rPr sz="4400"/>
            </a:b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(The lactic acid system)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Arial"/>
              </a:rPr>
              <a:t>Fast glycolysis is used when oxygen is in short supply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Arial"/>
              </a:rPr>
              <a:t>Fast glycolysis results in the formation of lactic ac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Arial"/>
              </a:rPr>
              <a:t>An increase in lactic acid in the muscle can involve muscular fatigue and ultimately cessation of exercis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camera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TANGERI</cp:lastModifiedBy>
  <dcterms:modified xsi:type="dcterms:W3CDTF">2004-03-12T12:46:31Z</dcterms:modified>
  <cp:revision>55</cp:revision>
  <dc:subject/>
  <dc:title>PowerPoint Presentation</dc:title>
</cp:coreProperties>
</file>